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8C06-5595-45A8-8651-BDA57151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7A59-36B0-408A-973E-1C08CFDD0C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3046-AFF0-4DB1-A85F-B383BD086D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A4E-E340-482E-A35F-5EF788AECD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2BC-72C0-4A61-9DE8-306A77C665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7A4-01DE-483B-A424-D5FC298E11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17C-BE63-4CD7-A576-FF5108530A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D9E-F3C1-40F4-AFB7-A825BCD75F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AA0-1F16-44E7-B24B-3AAAA7D4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938-BE74-4D8C-9E35-204CE83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1CC-2070-4ADD-9BD8-CD216A40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F39-A906-408B-9A8B-562C0E45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9BCF-589B-4940-B3F4-65BE09BC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5F03-5095-4D9F-A6F0-DFB50C62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6F0B-E9C2-4476-8BD4-A92214B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A4D7-3CAA-4F58-80D8-948719F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A343-8EAD-4554-8968-FC7A9BF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885-1D34-4029-A559-D1A53BA3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409-E0B1-4DFA-BEA9-A84F032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F40-690B-4DF2-8FAC-EA1793B9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2EB-7FD2-4B15-9E2B-3CD9F95A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00D4-4FFC-40A8-98F5-866407A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278E-E3C9-4864-8B79-662D56D1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08E-3123-4963-8304-8EB4B9EC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5351-CB96-4503-A81E-998F71B9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A8F-85D5-42B9-98BB-C59F75FC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FFB-1805-4308-BAAE-BAF32B8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763-35CB-49A2-A8C7-CC7C037A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03E-AB86-47F9-BEC5-0F8B1E7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014-BD5B-4660-AB85-F14F584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D30-A4E1-4F73-A193-4E670CCC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8D31-0505-4EAC-BF54-825B7AB1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3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B12-7017-4851-9F7A-FEFD00E0B229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2.03 Demonstrate desktop publis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D5D0-6FFD-48CA-ACA3-62191DDAAFA8}" type="slidenum"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1828440"/>
            <a:ext cx="70866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ayout of a Desktop Publishing Document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1911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1.03 Demonstrate desktop publishing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Margin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10" descr="Fig2-01"/>
          <p:cNvPicPr/>
          <p:nvPr/>
        </p:nvPicPr>
        <p:blipFill>
          <a:blip r:embed="rId1"/>
          <a:stretch/>
        </p:blipFill>
        <p:spPr>
          <a:xfrm>
            <a:off x="4241880" y="1676520"/>
            <a:ext cx="4673520" cy="35049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2"/>
          <p:cNvGrpSpPr/>
          <p:nvPr/>
        </p:nvGrpSpPr>
        <p:grpSpPr>
          <a:xfrm>
            <a:off x="5410080" y="3123720"/>
            <a:ext cx="1981440" cy="2685600"/>
            <a:chOff x="5410080" y="3123720"/>
            <a:chExt cx="1981440" cy="2685600"/>
          </a:xfrm>
        </p:grpSpPr>
        <p:sp>
          <p:nvSpPr>
            <p:cNvPr id="96" name="Line 15"/>
            <p:cNvSpPr/>
            <p:nvPr/>
          </p:nvSpPr>
          <p:spPr>
            <a:xfrm flipV="1">
              <a:off x="6629400" y="3123720"/>
              <a:ext cx="762120" cy="2210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 flipV="1">
              <a:off x="6476760" y="4647960"/>
              <a:ext cx="15228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5410080" y="5410440"/>
              <a:ext cx="194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Margin Guid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Rectangle 3"/>
          <p:cNvSpPr/>
          <p:nvPr/>
        </p:nvSpPr>
        <p:spPr>
          <a:xfrm>
            <a:off x="533520" y="1752480"/>
            <a:ext cx="358128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aedd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argin guides are lines that indicate the space between the edge of the page and the documen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lumn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980720"/>
            <a:ext cx="2590560" cy="3429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lumn guides control the flow of text within columns and keep text out of the gutter (space between columns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486400" y="5486400"/>
            <a:ext cx="312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ple newsletter template from Microsof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048120" y="1523880"/>
            <a:ext cx="5343480" cy="4514040"/>
            <a:chOff x="3048120" y="1523880"/>
            <a:chExt cx="5343480" cy="451404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tretch/>
          </p:blipFill>
          <p:spPr>
            <a:xfrm>
              <a:off x="3048120" y="1981080"/>
              <a:ext cx="5343480" cy="344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Group 27"/>
            <p:cNvGrpSpPr/>
            <p:nvPr/>
          </p:nvGrpSpPr>
          <p:grpSpPr>
            <a:xfrm>
              <a:off x="3961800" y="1523880"/>
              <a:ext cx="3429720" cy="4514040"/>
              <a:chOff x="3961800" y="1523880"/>
              <a:chExt cx="3429720" cy="4514040"/>
            </a:xfrm>
          </p:grpSpPr>
          <p:cxnSp>
            <p:nvCxnSpPr>
              <p:cNvPr id="106" name="Straight Arrow Connector 13"/>
              <p:cNvCxnSpPr/>
              <p:nvPr/>
            </p:nvCxnSpPr>
            <p:spPr>
              <a:xfrm>
                <a:off x="6324840" y="1904400"/>
                <a:ext cx="381600" cy="6102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07" name="Straight Arrow Connector 14"/>
              <p:cNvCxnSpPr/>
              <p:nvPr/>
            </p:nvCxnSpPr>
            <p:spPr>
              <a:xfrm flipH="1">
                <a:off x="4876560" y="1904760"/>
                <a:ext cx="1448640" cy="8388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08" name="TextBox 19"/>
              <p:cNvSpPr/>
              <p:nvPr/>
            </p:nvSpPr>
            <p:spPr>
              <a:xfrm>
                <a:off x="5257800" y="1523880"/>
                <a:ext cx="21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Column Guide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109" name="Straight Arrow Connector 21"/>
              <p:cNvCxnSpPr/>
              <p:nvPr/>
            </p:nvCxnSpPr>
            <p:spPr>
              <a:xfrm flipH="1" flipV="1">
                <a:off x="3961800" y="5104800"/>
                <a:ext cx="686520" cy="53388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10" name="Straight Arrow Connector 23"/>
              <p:cNvCxnSpPr/>
              <p:nvPr/>
            </p:nvCxnSpPr>
            <p:spPr>
              <a:xfrm flipV="1">
                <a:off x="4647240" y="3276360"/>
                <a:ext cx="153000" cy="23630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11" name="TextBox 26"/>
              <p:cNvSpPr/>
              <p:nvPr/>
            </p:nvSpPr>
            <p:spPr>
              <a:xfrm>
                <a:off x="3962520" y="563904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Gutter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Ruler Guide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43000" y="1752480"/>
            <a:ext cx="26668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uler guides are used to align objects consistently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3733920" y="1523880"/>
            <a:ext cx="4800600" cy="4666320"/>
            <a:chOff x="3733920" y="1523880"/>
            <a:chExt cx="4800600" cy="4666320"/>
          </a:xfrm>
        </p:grpSpPr>
        <p:pic>
          <p:nvPicPr>
            <p:cNvPr id="115" name="Picture 4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505400" cy="394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13"/>
            <p:cNvGrpSpPr/>
            <p:nvPr/>
          </p:nvGrpSpPr>
          <p:grpSpPr>
            <a:xfrm>
              <a:off x="3733920" y="3049200"/>
              <a:ext cx="4800600" cy="3141000"/>
              <a:chOff x="3733920" y="3049200"/>
              <a:chExt cx="4800600" cy="3141000"/>
            </a:xfrm>
          </p:grpSpPr>
          <p:sp>
            <p:nvSpPr>
              <p:cNvPr id="117" name="TextBox 6"/>
              <p:cNvSpPr/>
              <p:nvPr/>
            </p:nvSpPr>
            <p:spPr>
              <a:xfrm>
                <a:off x="3733920" y="5791320"/>
                <a:ext cx="480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Horizontal and Vertical Ruler Guide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cxnSp>
            <p:nvCxnSpPr>
              <p:cNvPr id="118" name="Straight Arrow Connector 8"/>
              <p:cNvCxnSpPr/>
              <p:nvPr/>
            </p:nvCxnSpPr>
            <p:spPr>
              <a:xfrm flipV="1">
                <a:off x="5942520" y="4190400"/>
                <a:ext cx="1067400" cy="160092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9"/>
              <p:cNvCxnSpPr/>
              <p:nvPr/>
            </p:nvCxnSpPr>
            <p:spPr>
              <a:xfrm flipH="1" flipV="1">
                <a:off x="5563800" y="3049200"/>
                <a:ext cx="380160" cy="274248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Grid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76520"/>
            <a:ext cx="7086600" cy="4378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rids are guidelines used to ensure consistent placement of logos, graphics, and other objects throughout multiple documents, such as a print media ki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28800" y="2971800"/>
            <a:ext cx="6031080" cy="2771640"/>
            <a:chOff x="1828800" y="2971800"/>
            <a:chExt cx="6031080" cy="277164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3505320" y="2971800"/>
              <a:ext cx="4354560" cy="27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15"/>
            <p:cNvGrpSpPr/>
            <p:nvPr/>
          </p:nvGrpSpPr>
          <p:grpSpPr>
            <a:xfrm>
              <a:off x="1828800" y="4419000"/>
              <a:ext cx="3734280" cy="1143360"/>
              <a:chOff x="1828800" y="4419000"/>
              <a:chExt cx="3734280" cy="1143360"/>
            </a:xfrm>
          </p:grpSpPr>
          <p:cxnSp>
            <p:nvCxnSpPr>
              <p:cNvPr id="125" name="Straight Arrow Connector 6"/>
              <p:cNvCxnSpPr/>
              <p:nvPr/>
            </p:nvCxnSpPr>
            <p:spPr>
              <a:xfrm flipV="1">
                <a:off x="2742840" y="4419000"/>
                <a:ext cx="2667960" cy="5342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7"/>
              <p:cNvCxnSpPr/>
              <p:nvPr/>
            </p:nvCxnSpPr>
            <p:spPr>
              <a:xfrm>
                <a:off x="2819520" y="4952520"/>
                <a:ext cx="915120" cy="61020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9"/>
              <p:cNvCxnSpPr/>
              <p:nvPr/>
            </p:nvCxnSpPr>
            <p:spPr>
              <a:xfrm>
                <a:off x="2743200" y="4952880"/>
                <a:ext cx="2820240" cy="53424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sp>
            <p:nvSpPr>
              <p:cNvPr id="128" name="TextBox 14"/>
              <p:cNvSpPr/>
              <p:nvPr/>
            </p:nvSpPr>
            <p:spPr>
              <a:xfrm>
                <a:off x="1828800" y="449532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Grids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Templat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standard pre-formatted layout which may contain a color scheme, font scheme, pictures, and preset margin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Page Size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ublications can vary in size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fferent purposes require different paper siz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siness card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rochure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oster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Palatino Linotype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Invitation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3429000" y="2590920"/>
            <a:ext cx="4967280" cy="3741480"/>
            <a:chOff x="3429000" y="2590920"/>
            <a:chExt cx="4967280" cy="3741480"/>
          </a:xfrm>
        </p:grpSpPr>
        <p:pic>
          <p:nvPicPr>
            <p:cNvPr id="134" name="Picture 2" descr=""/>
            <p:cNvPicPr/>
            <p:nvPr/>
          </p:nvPicPr>
          <p:blipFill>
            <a:blip r:embed="rId1"/>
            <a:stretch/>
          </p:blipFill>
          <p:spPr>
            <a:xfrm>
              <a:off x="3429000" y="4267080"/>
              <a:ext cx="1981440" cy="153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4" descr=""/>
            <p:cNvPicPr/>
            <p:nvPr/>
          </p:nvPicPr>
          <p:blipFill>
            <a:blip r:embed="rId2"/>
            <a:stretch/>
          </p:blipFill>
          <p:spPr>
            <a:xfrm>
              <a:off x="5486400" y="4114800"/>
              <a:ext cx="2909880" cy="22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"/>
            <p:cNvPicPr/>
            <p:nvPr/>
          </p:nvPicPr>
          <p:blipFill>
            <a:blip r:embed="rId3"/>
            <a:stretch/>
          </p:blipFill>
          <p:spPr>
            <a:xfrm>
              <a:off x="5410440" y="3276360"/>
              <a:ext cx="94284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4"/>
            <a:stretch/>
          </p:blipFill>
          <p:spPr>
            <a:xfrm>
              <a:off x="6858360" y="2590920"/>
              <a:ext cx="1473840" cy="114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3:50:35Z</dcterms:created>
  <dc:creator>Ruth Lupton</dc:creator>
  <dc:description/>
  <dc:language>en-US</dc:language>
  <cp:lastModifiedBy>Trey and Amy Michael</cp:lastModifiedBy>
  <dcterms:modified xsi:type="dcterms:W3CDTF">2010-06-25T15:05:36Z</dcterms:modified>
  <cp:revision>82</cp:revision>
  <dc:subject/>
  <dc:title>Information Support and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